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2643-C552-4DE6-93F3-430257889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D8A3-9F5A-45F7-AEF7-F0C25673C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D246-2AE1-4671-849E-65CEF5621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2C62-DF34-4CF2-A2F3-76D94835A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4444-C652-46A3-84A6-DF36B4BC1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B1B1-0E60-4A4A-B907-E742E11BA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0621-3BFA-4D7D-B2E7-B149C81B7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0853-08B2-4A91-A4F9-8C43A3B5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C42A-D565-4DCD-88DC-19B1838BE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3DB8D-D53D-4391-AC85-5C8349D8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A7EC-6799-445F-8A74-F9E140D6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71D6-DC1C-43A1-8C65-876D15738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D80BB-4EB8-4C10-B4C2-58CF2B058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ny-plp.wikispaces.com/" TargetMode="External"/><Relationship Id="rId3" Type="http://schemas.openxmlformats.org/officeDocument/2006/relationships/hyperlink" Target="http://wny-plp.wikispaces.com/" TargetMode="External"/><Relationship Id="rId4" Type="http://schemas.openxmlformats.org/officeDocument/2006/relationships/hyperlink" Target="http://del.icio.us/tag/wnyplp21" TargetMode="External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hyperlink" Target="http://wny-plp.wikispaces.com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abpc21.org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778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7200" y="2814480"/>
            <a:ext cx="82296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werful Learning Practice 21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entury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eryl Nussbaum-B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ll Richard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vember 5,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295280" y="22860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etting the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people </a:t>
            </a:r>
            <a:br>
              <a:rPr sz="3200"/>
            </a:b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the bu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5638680"/>
            <a:ext cx="16765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209680" y="2044800"/>
            <a:ext cx="4267440" cy="3213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4038480" y="5486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im Collins, “Good to Gre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086600" y="251460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You were hand selected carefully as teacher leade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447920" y="30492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Sched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5334120"/>
            <a:ext cx="10670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772400" y="0"/>
            <a:ext cx="13716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219320" y="10080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ce-to-Face Meeting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v. 5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y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luminate Sessions 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(2 pm – 4 p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dule 1 (Intro to 21st Century teaching) Nov. 29, Dec.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dule 2 (Cool Tools): Jan. 30, Feb.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dule 3 (It's All About the Learning):  Feb 26,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dule 4 (Virtual Learning Fair):  April  28,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irtual Learning Community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52480" y="380880"/>
            <a:ext cx="6705720" cy="641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Collaborative Tool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NY-PLP </a:t>
            </a:r>
            <a:r>
              <a:rPr b="0" lang="en-US" sz="3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i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Del.icio.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Ellumina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Tw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</a:rPr>
              <a:t>N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1825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lann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95280" y="5638680"/>
            <a:ext cx="17528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914400"/>
            <a:ext cx="7924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Knowledge:</a:t>
            </a:r>
            <a:r>
              <a:rPr b="0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n understanding of the transform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potential of Web 2.0 tools in a global persp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nd context, and how those potentials can 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realized in schoo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Pedagogy: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n understanding of the shifting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teracies that the 21 Century demands and how th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literacies are being taught by trail-blaz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eachers who are already using the techn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in their classroo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371600" y="762120"/>
            <a:ext cx="754380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Connections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:</a:t>
            </a:r>
            <a:r>
              <a:rPr b="1" i="1" lang="en-US" sz="32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development of sustained professional learning networks for team members to begin experimenting and sharing with other team members and online colleagues from around the worl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Sustainability: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creation of long term plan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ove the vision forward in participating districts 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end of the program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apacity:</a:t>
            </a: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An increase in the abilities and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of individuals, teams and the community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manage 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52480" y="15228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lanned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38080" y="152280"/>
            <a:ext cx="6705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LC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onceptual Framework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752480" y="1905120"/>
            <a:ext cx="685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C conceptual framework can 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1371600"/>
            <a:ext cx="754380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 solid foundation of collaboratively developed and widely shared vision, mission, values and goals that align with the 21</a:t>
            </a:r>
            <a:r>
              <a:rPr b="0" lang="en-US" sz="2800" spc="-1" strike="noStrike" baseline="30000">
                <a:solidFill>
                  <a:srgbClr val="bbe0e3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Century learner’s nee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Collaborative teams that work interdependently to achieve common go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A focus on results as evidenced by a commitment to 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380880"/>
            <a:ext cx="6705720" cy="284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"/>
              </a:rPr>
              <a:t>Professional Learning Communiti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057400" y="2133720"/>
            <a:ext cx="6477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5120" y="1828800"/>
            <a:ext cx="662940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The driving engine of the collaborative culture of a PLC i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the team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. They work together in an ongoing effort to discover best practices and to expand their professional experti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PLCs are our best hope for reculturing schools. We want to focus on shifting from a culture of teacher isolation to a </a:t>
            </a: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culture of deep and meaningful collaboration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6095880" y="4876920"/>
            <a:ext cx="2400480" cy="1800000"/>
          </a:xfrm>
          <a:prstGeom prst="rect">
            <a:avLst/>
          </a:prstGeom>
          <a:ln w="28440">
            <a:solidFill>
              <a:srgbClr val="bbe0e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43000" y="152280"/>
            <a:ext cx="8001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rofessional Learning Communities</a:t>
            </a:r>
            <a:br>
              <a:rPr sz="32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Communities of Continuous Improvement and Inqu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295280" y="5638680"/>
            <a:ext cx="175284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1447920"/>
            <a:ext cx="739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owerful Learning Practice  Team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209680"/>
            <a:ext cx="7391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362320"/>
            <a:ext cx="7086600" cy="38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ndividually-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Write at least 3-5 assumptions you have about how you will operate as a 21</a:t>
            </a:r>
            <a:r>
              <a:rPr b="1" lang="en-US" sz="2000" spc="-1" strike="noStrike" baseline="30000">
                <a:solidFill>
                  <a:srgbClr val="ffcc00"/>
                </a:solidFill>
                <a:latin typeface="Arial"/>
              </a:rPr>
              <a:t>st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 Century Learning team this year and any goals you have for the year as a team. 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Place all the cards in the center of the table: Stack and shuffl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bbe0e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bbe0e3"/>
                </a:solidFill>
                <a:latin typeface="Arial"/>
              </a:rPr>
              <a:t>In turn,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ach team member picks a card to read aloud to the table. Engage in dialogue and discussion about the assumptions. 15 m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ttp://wnyplp.ning.co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NBEACH@COX.N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WEBLOGGED@GMAIL.COM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ortant li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nyplp.ning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ny-plp.wikispaces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nbeach@cox.ne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eblogged@gmail.co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ype: snbea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kype: willrich4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5638680"/>
            <a:ext cx="17524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441440" y="1295280"/>
            <a:ext cx="3676680" cy="54104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5638680" y="19810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Our _x000b_Virtual Handout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57800" y="58672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hoto Credit: A socially networked student in an unplugged classro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76320"/>
            <a:ext cx="8001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cc00"/>
                </a:solidFill>
                <a:latin typeface="Arial"/>
                <a:ea typeface="Times New Roman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Powerful Learning Practice (PLP)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f2f Celeb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1523880" y="76320"/>
            <a:ext cx="7391520" cy="70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here are you on the developmental continuum for 21st Century teaching and learning- on a  “know nothing” to “know everything” scale?               </a:t>
            </a:r>
            <a:r>
              <a:rPr b="1" lang="en-US" sz="1800" spc="-1" strike="noStrike">
                <a:solidFill>
                  <a:srgbClr val="ff6699"/>
                </a:solidFill>
                <a:latin typeface="Arial"/>
              </a:rPr>
              <a:t>(Please place your vote on char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wb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 newcomer to cyberspace, Web 2.0 and/or social networking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Explor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illing to try a few new things, ask questions, and starting to gain an awareness around using  blogs, wikis, podcasts, and vidcasts in instruction. You have possibly joined a listserv and are sharing ideas with other teachers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ath Find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or your students have created a blogs, wiki, or podcast. Some of your teaching is delivered in a student centered, inquiry-based format. You are reading articles/books about how to use Web 2.0 tools with your students. You understand the term digital nativ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wer User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ou blog and teach others how to blog. You use flickr, RSS, del.icio.us, and a wiki regularly. You can give at least three traits of a netgener and confusion and chaos do not bother you anymore. You regularly use project/problem based teaching in your classroo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estern NY PLP Schools/Districts</a:t>
            </a: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------------------------------------------------------------------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066680"/>
          <a:ext cx="9144000" cy="647712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andolph C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pringville Griff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Franklinville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Iroquois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ast Aurora UFSD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ast Aurora UFSD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ast Aurora UFSD (3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heektowaga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ioneer Centr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weet Home C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Holland CS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iagara Academ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Nico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ilver Cre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ighton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ighton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ebster (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ebster (2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onroe Cross District (A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753840" cy="771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538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NY PLP </a:t>
            </a:r>
            <a:br>
              <a:rPr sz="28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Team Leaders</a:t>
            </a:r>
            <a:br>
              <a:rPr sz="36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------------------------------------------------------------------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4036320" cy="218412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c Law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4648320" y="1600200"/>
          <a:ext cx="4036320" cy="218412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nda P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57200" y="3938760"/>
          <a:ext cx="4036320" cy="218556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nda P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04920" y="1219320"/>
          <a:ext cx="9144000" cy="716904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7169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William Caldw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enda Pet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indy Crand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egina Beck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olleen Klimchu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ames Hoagla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ames Bodzi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even Wrigh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Pamela Katterman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enifer Gilson</a:t>
                      </a:r>
                      <a:br>
                        <a:rPr sz="2000"/>
                      </a:br>
                      <a:r>
                        <a:rPr b="1" lang="en-US" sz="2400" spc="-1" strike="noStrike">
                          <a:solidFill>
                            <a:srgbClr val="33cc33"/>
                          </a:solidFill>
                          <a:latin typeface="Arial"/>
                        </a:rPr>
                        <a:t>	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r>
                        <a:rPr b="1" lang="en-US" sz="20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ric Lawt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ushma Sztor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usan Alle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Kathleen Grade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ob Tho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teven Schafhei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Erin 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arb Goldamme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Lisa Clar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753840" cy="771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53840" cy="771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4267080" y="3156120"/>
          <a:ext cx="609480" cy="547560"/>
        </p:xfrm>
        <a:graphic>
          <a:graphicData uri="http://schemas.openxmlformats.org/drawingml/2006/table">
            <a:tbl>
              <a:tblPr/>
              <a:tblGrid>
                <a:gridCol w="609480"/>
              </a:tblGrid>
              <a:tr h="550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arb Goldamm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WNY PLP </a:t>
            </a:r>
            <a:br>
              <a:rPr sz="2800"/>
            </a:b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21</a:t>
            </a:r>
            <a:r>
              <a:rPr b="0" lang="en-US" sz="3600" spc="-1" strike="noStrike" baseline="30000">
                <a:solidFill>
                  <a:srgbClr val="33cc33"/>
                </a:solidFill>
                <a:latin typeface="Arial"/>
              </a:rPr>
              <a:t>st</a:t>
            </a:r>
            <a:r>
              <a:rPr b="0" lang="en-US" sz="3600" spc="-1" strike="noStrike">
                <a:solidFill>
                  <a:srgbClr val="33cc33"/>
                </a:solidFill>
                <a:latin typeface="Arial"/>
              </a:rPr>
              <a:t> Century Fellows</a:t>
            </a:r>
            <a:br>
              <a:rPr sz="3600"/>
            </a:b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-------------------------------------------------------------------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457200" y="1600200"/>
          <a:ext cx="4036320" cy="218412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ric Lawt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4648320" y="1600200"/>
          <a:ext cx="4036320" cy="218412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4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nda P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57200" y="3938760"/>
          <a:ext cx="4036320" cy="2185560"/>
        </p:xfrm>
        <a:graphic>
          <a:graphicData uri="http://schemas.openxmlformats.org/drawingml/2006/table">
            <a:tbl>
              <a:tblPr/>
              <a:tblGrid>
                <a:gridCol w="4036320"/>
              </a:tblGrid>
              <a:tr h="21855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Brenda Pete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04920" y="1219320"/>
          <a:ext cx="9144000" cy="6476760"/>
        </p:xfrm>
        <a:graphic>
          <a:graphicData uri="http://schemas.openxmlformats.org/drawingml/2006/table">
            <a:tbl>
              <a:tblPr/>
              <a:tblGrid>
                <a:gridCol w="4572000"/>
                <a:gridCol w="4572000"/>
              </a:tblGrid>
              <a:tr h="647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Angela Stockm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Kristen Marchiol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Susan Rothwe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ichelle Ok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nsel Wel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onna Frymi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ave Mileha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eanne Myer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ian Blasza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rmelita Bieni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heresa Gra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Jeff Bar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aroyln Kic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im Clark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Rick Weinber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Mark Carl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Cheryl Fit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Brian C. Smit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Tadge O'Brien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Arial"/>
                        </a:rPr>
                        <a:t>Doreen Pietrantoni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753840" cy="771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077320" y="152280"/>
            <a:ext cx="753840" cy="7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1523880" y="30492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werful Learning Practice for Administrators and Teacher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1523880"/>
            <a:ext cx="18288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76720" y="2209680"/>
            <a:ext cx="53316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523880"/>
            <a:ext cx="213372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781680" y="1523880"/>
            <a:ext cx="18288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2209680"/>
            <a:ext cx="53352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2388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2F- 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05320" y="19051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505320" y="19051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6708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u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23888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1905120"/>
            <a:ext cx="1752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sense of urgency, build community, whet appeti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91120" y="1828800"/>
            <a:ext cx="167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 meetings where 50 + meet,  listen and then reflect in small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924680" y="0"/>
            <a:ext cx="12193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295280" y="5486400"/>
            <a:ext cx="9907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1905120"/>
            <a:ext cx="182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LC where we deepen understanding, network, and share re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371600" y="3657600"/>
            <a:ext cx="72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urpo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 virtual community designed to help participants gain an understanding of the transformative potential of Web 2.0 tools in a global perspective and context, and how those potentials can be translated into classroom practice in Western NY sch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447920" y="152388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52480" y="106200"/>
            <a:ext cx="563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cc00"/>
                </a:solidFill>
                <a:latin typeface="Arial"/>
              </a:rPr>
              <a:t>Building on Success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5638680"/>
            <a:ext cx="16002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905120" y="1523880"/>
            <a:ext cx="609588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523880" y="1190160"/>
            <a:ext cx="7391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 schools (teams of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ach team has a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 Fellows to support th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 f2f meet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 live curriculum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going collaboration in V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e/Post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velopment of 3-5 yea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52480" y="1062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1946160" cy="19908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295280" y="5638680"/>
            <a:ext cx="16765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09:45:50Z</dcterms:created>
  <dc:creator>Your User Name</dc:creator>
  <dc:description/>
  <dc:language>en-US</dc:language>
  <cp:lastModifiedBy>Sheryl Nussbaum-Beach</cp:lastModifiedBy>
  <dcterms:modified xsi:type="dcterms:W3CDTF">2007-11-05T19:25:02Z</dcterms:modified>
  <cp:revision>112</cp:revision>
  <dc:subject/>
  <dc:title>Slide 1</dc:title>
</cp:coreProperties>
</file>